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gif" ContentType="image/gif"/>
  <Override PartName="/ppt/media/image13.png" ContentType="image/png"/>
  <Override PartName="/ppt/media/image11.jpeg" ContentType="image/jpeg"/>
  <Override PartName="/ppt/media/image8.png" ContentType="image/png"/>
  <Override PartName="/ppt/media/image19.jpeg" ContentType="image/jpeg"/>
  <Override PartName="/ppt/media/image16.jpeg" ContentType="image/jpeg"/>
  <Override PartName="/ppt/media/image17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D1C-DB7E-47C5-A1B5-E9E4E94D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38A-1109-4139-BCFF-E8072392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450-F7A4-40AC-BA39-5113CC09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F45-2269-4F9C-AB2D-FB68268D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188A-C232-413D-A803-578B7544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0604-42A2-4147-8856-04C256B1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53DC-CBCF-408F-A7DC-284C897D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1FC8-B1D2-4F0D-A135-254A2797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7C30-9035-4FDF-AC49-F7606FFB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411-9CA5-4528-BA38-3D0A8B3E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9037-EA43-4A05-A2DF-4DB2CC6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A3A-E82E-4E83-948F-B4E4492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27CE-8809-4D1B-9B0C-E713C2A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2D69-69F0-4FB9-B840-1C6C987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C2EF-0EDF-4E75-BDD3-966A12F4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2D97-2E51-4B13-BFE9-3016731B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B76C-0723-4260-BC3F-67BAF04A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0BD1-4782-4F00-A7AA-D5D62E0C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1B65-D382-42DC-B902-CA4C6201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B7C9-BF62-419D-BC75-F47174CC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9A1F-39D1-4B9D-8880-87147920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FBB2-B2CE-45F0-8235-22A6E4BF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854-826F-4122-9CA6-66BBE82D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AD0E-E82A-44A7-B233-E55110D7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2760-431D-4DEE-B9ED-C1155E0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CE2B-02B3-4D6F-866F-DD715B00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8F0E-ABB7-4DA1-92DB-511EA4D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3F06-9799-4321-B0A5-EB487AEB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DE6F-4C14-458B-A4A4-A6E02C14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6CD0-3999-4A31-8030-87D86FB5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D588-6D4E-4564-84C9-F1C6B2B1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17B7-51D3-4A58-B4E9-38A7D318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627A-E0C4-47D8-ADF4-8B7F1F8C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82A-09A2-406B-B851-9463CE0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A2094-3336-4BD0-A7BC-AB80AD9A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343B-5E77-4FA9-8673-CCE4C46A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3A6F-3CF2-4B6C-8E6F-164E3B28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2A8E6-4BBF-4C07-AB4C-B78E639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7E46-3FB5-44F8-A46F-D45645B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ACE48-7697-41A3-A180-E3F3A8B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B59A1-EF7F-4240-B65B-4447F68A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0FAB-95BB-4603-B9B7-B1136989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846EB-C2C2-4E1E-BBD7-E4E3CCB7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BB97-D013-4ABB-9643-72679732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AE6-6370-4DE6-9F9E-97934229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2C019-E6E0-42D0-B037-85419F13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98112-7A12-4A26-86D5-F28E592E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F47E0-D2B5-4B1E-81BD-9C46F678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1BED1-21A8-4D4F-BE9C-36CEC892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97566-A466-4A4D-8036-15300A39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7BEB-8902-4303-83B0-24D37E13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F36F3-9B32-4BFA-8728-7D6EB1D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4324-388E-4B24-9F88-E7A27681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C2EB-0F0C-4963-BF31-7EF49CE1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2AFF-35E1-4ACB-A844-D82589F9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02B-B570-4B93-9141-5F2D42D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DE599-15C0-4909-A622-0DF95E7A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84AE-E388-4869-94A1-36CB5C62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9FBE-DEA3-4FA8-85C1-4563C759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645F6-9C9B-484E-81F8-36CA407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946C1-0354-4F13-99CC-85CCA53D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4F191-D570-4593-9B48-6FF1E54D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5F87-9826-4D3A-B65B-BB8DB023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A89DE-7E70-44B3-8097-3D5706ED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783F-DBC6-46C8-B367-6B647E9F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31C6F-77A3-40F2-B021-91E59763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B55-A1AE-4A2F-A2A1-8AA5195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65CC-7978-41C2-93B8-86CF407E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F3C7-086B-4E0A-82DB-DFDA3E64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CEBE0-0D00-4D27-8D57-64AB2B32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086F8-C67C-45F6-A627-B9561511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A94C3-5B66-4C1D-95DC-B384CC4E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847BA-CDF4-464F-825E-2341F93F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4AB18-EFF2-4EA6-85E1-74F64964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694B4-360A-4A65-B7C2-DED3E726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A91F-1574-437C-82AB-9662E90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EF05-DA4E-4E8B-AA85-44B1BAF3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878-56CA-487D-9B4B-4B5B8E8B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4CA68-BB34-40C7-9DAE-75C37684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1DBAF-0C6D-4B71-B389-2A0879D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5B028-FD41-4817-B6BF-21FEB25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E22EB-811D-464A-8184-280E77C5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8E76-39A3-444A-AC6E-82DA35CA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E5DAC-27BB-4745-9F44-E40C6271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1691-F9C3-49B8-97B4-3E217161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A1E18-36E2-453A-B0DF-57CE1FF5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B2F0A-B4DC-47A3-8D6F-8D882000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C7E3-E9DD-4085-B9C9-0A248758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550-EDC0-4430-B12C-671650A3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21DA-FA23-4EF6-BA3C-8AF8464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B1DF-B4CA-4B6D-A64F-83E78404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FA8F6-ABA5-4675-92AD-03DD9E2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CC908-8F97-4D8B-9FF9-F351D0A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8ACD0-699A-4A27-AD95-983CAAFB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848BF-2E7B-4623-B990-8BDC01E2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84387-30E8-4ACE-8D75-82E19CA9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75DB-7B43-4116-84E7-89AE8AA09D6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rójkąt równoramienny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7F30-08C1-4EB6-8E3F-4CDAA6D23FF3}" type="slidenum">
              <a:rPr b="0" lang="pl-P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0198-6574-4981-B052-F8690B5EFE5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ójkąt prostokątny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rójkąt równoramienny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Łącznik prosty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Łącznik prosty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8468-8326-4EDC-87AE-104331141AE0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55D-E0F1-4FE3-B7A2-AD39CB1B93B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CF57-026A-4A76-903F-1D20D911339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7836-B1D6-4864-A87B-7BAC33716E60}" type="slidenum"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35DB-F205-43C8-B71E-84F6CDB77FB5}" type="slidenum"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ytuł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29656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Podtytuł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8920" cy="1841400"/>
          </a:xfrm>
          <a:prstGeom prst="rect">
            <a:avLst/>
          </a:prstGeom>
          <a:ln w="0">
            <a:noFill/>
          </a:ln>
        </p:spPr>
      </p:pic>
      <p:pic>
        <p:nvPicPr>
          <p:cNvPr id="347" name="Obraz 5" descr="tenis-odpoczynek-380-OBRAZKY_PL.jpg"/>
          <p:cNvPicPr/>
          <p:nvPr/>
        </p:nvPicPr>
        <p:blipFill>
          <a:blip r:embed="rId3"/>
          <a:stretch/>
        </p:blipFill>
        <p:spPr>
          <a:xfrm>
            <a:off x="69840" y="3546360"/>
            <a:ext cx="42670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Gratulacje!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Skończyliście Waszą prezentację i możecie pochwalić się efektami pracy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Mam nadzieję, że dzięki wspólnej pracy poznaliście się nawzajem, nauczyliście systematycznie i zgodnie pracować, a przy okazji dowiedzieliście się czegoś o sporcie z innej perspektywy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Symbol zastępczy zawartości 6" descr="szczur-mina-920-OBRAZKY_PL.jpg"/>
          <p:cNvPicPr/>
          <p:nvPr/>
        </p:nvPicPr>
        <p:blipFill>
          <a:blip r:embed="rId2"/>
          <a:stretch/>
        </p:blipFill>
        <p:spPr>
          <a:xfrm>
            <a:off x="4775040" y="1357200"/>
            <a:ext cx="3800520" cy="492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ytuł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Witajcie!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Nasz Web Quest ma za zadanie wzbudzić w Was nie tylko przemożną chęć uprawiania sportów (bo do tego zachęcać Was nie trzeba), ale do refleksji nad sportem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Czy sport niesie ze sobą tylko pozytywne wartości? Zaangażowanie, konsekwencję, hartowanie silnej woli? Jak sport wpływa na społeczeństwo? Jaką rolę odgrywa w życiu poszczególnych ludzi?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Mam nadzieję, że ten WebQuest pomoże Wam w pracy nad projektem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Powodzenia!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Barbara Kucharewicz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Symbol zastępczy zawartości 6" descr="dawid-i-goliat-544-OBRAZKY_PL.jpg"/>
          <p:cNvPicPr/>
          <p:nvPr/>
        </p:nvPicPr>
        <p:blipFill>
          <a:blip r:embed="rId2"/>
          <a:stretch/>
        </p:blipFill>
        <p:spPr>
          <a:xfrm>
            <a:off x="5181480" y="1852560"/>
            <a:ext cx="2971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ytuł 3" descr=""/>
          <p:cNvPicPr/>
          <p:nvPr/>
        </p:nvPicPr>
        <p:blipFill>
          <a:blip r:embed="rId1"/>
          <a:stretch/>
        </p:blipFill>
        <p:spPr>
          <a:xfrm>
            <a:off x="304920" y="360360"/>
            <a:ext cx="850428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Symbol zastępczy zawartości 7" descr="mozg-to-komputer-381-OBRAZKY_PL.jpg"/>
          <p:cNvPicPr/>
          <p:nvPr/>
        </p:nvPicPr>
        <p:blipFill>
          <a:blip r:embed="rId2"/>
          <a:stretch/>
        </p:blipFill>
        <p:spPr>
          <a:xfrm>
            <a:off x="357120" y="22147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Naszym celem jest przedstawienie jasnych i ciemnych stron sportu. Uprawianie sportu daje niezwykłą satysfakcję, jednoczy ludzi, ale często może być także przyczyną konfliktów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Za pomocą filmu spróbujcie zaprezentować to zagadnienie, mając na względzie te dwa aspekty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ytuł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W wyniku realizowania projektu uczeń zdobywa umiejętności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pracy w zespol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planowania zadań i podziału obowiązków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samodzielnego wyszukiwania i analizowania informacji z różnych źródeł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oraz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poszerza wiedzę i umiejętności z dziedziny informatyki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Obraz 3" descr="1941.gif"/>
          <p:cNvPicPr/>
          <p:nvPr/>
        </p:nvPicPr>
        <p:blipFill>
          <a:blip r:embed="rId2"/>
          <a:stretch/>
        </p:blipFill>
        <p:spPr>
          <a:xfrm>
            <a:off x="6572160" y="571680"/>
            <a:ext cx="1785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ytuł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Witajcie!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Nasz Web Quest ma za zadanie wzbudzić w Was nie tylko przemożną chęć uprawiania sportów (bo do tego zachęcać Was nie trzeba), ale do refleksji nad sportem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Czy sport niesie ze sobą tylko pozytywne wartości? Zaangażowanie, konsekwencję, hartowanie silnej woli? Jak sport wpływa na społeczeństwo? Jaką rolę odgrywa w życiu poszczególnych ludzi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Mam nadzieję, że ten WebQuest pomoże Wam w pracy nad projektem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Powodzenia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Barbara Kucharewicz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Obraz 4" descr="zrobisz-tak-659-OBRAZKY_PL.jpg"/>
          <p:cNvPicPr/>
          <p:nvPr/>
        </p:nvPicPr>
        <p:blipFill>
          <a:blip r:embed="rId2"/>
          <a:stretch/>
        </p:blipFill>
        <p:spPr>
          <a:xfrm>
            <a:off x="5214960" y="142920"/>
            <a:ext cx="3700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ytuł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Waszym zadaniem jest nakręcenie około 5 minutowego filmiku, który ma przedstawić wcześniej wymieniony temat.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W tym celu musicie dobrać się w pięcioosobowe grupy i podzielić rolami.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-Kierownik zespołu- nadzoruje poszczególne etapy pracy, przypomina o harmonogramie działań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-Literat- dba o poprawność tekstu, dobiera komentarze, puentuje całość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-Scenarzysta- wybiera sceny, dobiera materiał filmowy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-Producent- montuje zebrany materiał, dopasowuje muzykę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-Prezenter- ułatwia komunikację w grupie oraz przedstawia wyniki pracy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ytuł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entury Gothic"/>
              </a:rPr>
              <a:t>Dobierzcie się w grupę, w której będzie się Wam razem dobrze pracowało. Każde w Was musi pełnić inną rolę, więc ważna jest dobra komunikacj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entury Gothic"/>
              </a:rPr>
              <a:t>Przeszukajcie różne źródła w celu znalezienia jak największej ilości materiałów potrzebnych do zaprezentowania tezy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entury Gothic"/>
              </a:rPr>
              <a:t>Zróbcie plan tego, co chcecie pokazać- niech pełni on rolę scenariusz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entury Gothic"/>
              </a:rPr>
              <a:t>Nakręćcie autorski film lub zmontujcie go z zebranych materiałów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entury Gothic"/>
              </a:rPr>
              <a:t>Ukraście swój film muzyką, dodajcie własne wypowiedzi lub komentarz obrazkowy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Obraz 3" descr="1885.gif"/>
          <p:cNvPicPr/>
          <p:nvPr/>
        </p:nvPicPr>
        <p:blipFill>
          <a:blip r:embed="rId2"/>
          <a:stretch/>
        </p:blipFill>
        <p:spPr>
          <a:xfrm>
            <a:off x="6786720" y="214200"/>
            <a:ext cx="15001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ytuł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66" name="Symbol zastępczy zawartości 6" descr="bramkarz-708-OBRAZKY_PL.jpg"/>
          <p:cNvPicPr/>
          <p:nvPr/>
        </p:nvPicPr>
        <p:blipFill>
          <a:blip r:embed="rId2"/>
          <a:stretch/>
        </p:blipFill>
        <p:spPr>
          <a:xfrm>
            <a:off x="928800" y="1643040"/>
            <a:ext cx="3324240" cy="4286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Wasza praca będzie jedną z sześciu prac wykonanych przez uczniów gimnazjów orzeskic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Elementy, które będą brane pod uwagę w ocenie to: estetyka, ciekawe przedstawienie tematu, prezentowanie własnej opinii, poczucie humoru, umiejętności korzystania z programów, montaż, współpraca w grupie, umiejętność zaprezentowania efektó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ytuł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Wyjątkowo wyszukiwanie źródeł zależy tylko od Was… Waszej pomysłowości i sposobowi w jaki chcecie przedstawić tema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Inspiracji możecie szukac wszedzie- mogą nimi być wywiady z kolegami z np. sportowej klasy, zasoby Internetu lub rozmowy z osobami uprawiającymi wyczynowo spor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40:57Z</dcterms:created>
  <dc:creator>Basia</dc:creator>
  <dc:description/>
  <dc:language>en-US</dc:language>
  <cp:lastModifiedBy>Basia</cp:lastModifiedBy>
  <dcterms:modified xsi:type="dcterms:W3CDTF">2011-09-14T09:02:26Z</dcterms:modified>
  <cp:revision>11</cp:revision>
  <dc:subject/>
  <dc:title>Jasne i ciemne strony sportu</dc:title>
</cp:coreProperties>
</file>